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F1D-3C96-4671-A9B4-A2564297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BF9-1C73-42F0-9539-19D9F386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351-7B57-4E68-A985-D1CF3F59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223-D172-4CAE-93F7-6A4F035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B5ED-E1CC-412E-BFEB-2E2E0D06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250-F253-4816-8AC4-9426464A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2B0D-EA13-47A5-8108-B256930C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425-881D-4289-9E44-0E46E848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B88D-DEF1-4B23-B09F-1687C994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219C-AF10-4F5C-98A5-73228A8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2432-679D-4437-9D9B-99E3EC29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058-672B-4C28-B131-F8D46BBA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F475-8F7C-46E8-901D-F80F34DD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8B47-D68C-4E24-8686-17A7273F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A910-091F-48E6-AAD1-D7CBD9F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719-E6DB-447A-9BC7-C853EAA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1A51-AD56-42CB-A826-9ED3003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5934-686C-4FC8-9899-064EADBE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2AD2-D021-4FF8-B23C-B76050F0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4908-BCDB-4519-902B-40AF212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02CC-4371-4E05-8852-FE32632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DCF7-74B4-4D8A-8AF7-50F64EBC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59B-2DA2-4216-AC19-E395A5E6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49A9-9E18-4C6C-821D-A18E43F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7E96-3D00-436F-9665-A9DE6A61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95C8-C19A-4F68-9F46-46BB4638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5A16-1434-4D83-9BA5-8FB6514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9C0C-45D5-490A-9579-B96A966E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83E7-421D-4838-8362-AE42A62C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1176-8D62-435E-B8FD-178C70F9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63B-4EC4-4ED9-BA45-E439816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517-1113-4743-BB6E-5AC98B1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31D-D915-49B6-8683-AAB76EC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621-BD55-492D-8C8C-535A3F9D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377-10B6-4088-9FD9-890EAB7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9D8-A89A-4B78-A07D-C4310405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98A-EC2C-4853-B86C-B675A22DD34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093A-1022-4A45-BC67-BF9708B100A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F820-3FCF-4C1E-8495-BD3EE5A6571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.autorambler.ru/news/getimg.php?id=2656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pic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359240" y="0"/>
            <a:ext cx="4784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Arial Black"/>
              </a:rPr>
              <a:t>Сказ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00"/>
                </a:solidFill>
                <a:latin typeface="Arial Black"/>
              </a:rPr>
              <a:t>о трёх 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«</a:t>
            </a:r>
            <a:r>
              <a:rPr b="1" i="1" lang="ru-RU" sz="7000" spc="-1" strike="noStrike">
                <a:solidFill>
                  <a:srgbClr val="008000"/>
                </a:solidFill>
                <a:latin typeface="Arial Black"/>
              </a:rPr>
              <a:t>НЕ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947400" y="5643720"/>
            <a:ext cx="36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МБОУ «Средняя школа №9» ЕМР 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 Black"/>
              </a:rPr>
              <a:t>Театр здоровья 4б кла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Руководители: Габдельбарова С. 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             </a:t>
            </a: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Кочнева Е.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вниматель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ff"/>
                </a:solidFill>
                <a:latin typeface="Verdana"/>
              </a:rPr>
              <a:t>осторож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знание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правил дорожного движения!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M8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611280" y="260280"/>
            <a:ext cx="7921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казка был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но в ней намек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шеходам всем урок: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чтоб в аварию не попадат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надо знать и соблюдать,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сем без исключения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ПРАВИЛА ДВИЖЕНИЯ!</a:t>
            </a: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44D72EBDE45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7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Картинка 187 из 12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583280" y="2421000"/>
            <a:ext cx="6161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Verdana"/>
              </a:rPr>
              <a:t>АВАРИЯ!!!</a:t>
            </a:r>
            <a:endParaRPr b="0" lang="en-US" sz="10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2sent"/>
          <p:cNvPicPr/>
          <p:nvPr/>
        </p:nvPicPr>
        <p:blipFill>
          <a:blip r:embed="rId1"/>
          <a:srcRect l="0" t="0" r="0" b="7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693dcd64230593679c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80992-Sepik"/>
          <p:cNvPicPr/>
          <p:nvPr/>
        </p:nvPicPr>
        <p:blipFill>
          <a:blip r:embed="rId2"/>
          <a:srcRect l="15871" t="8652" r="8345" b="0"/>
          <a:stretch/>
        </p:blipFill>
        <p:spPr>
          <a:xfrm>
            <a:off x="1763640" y="0"/>
            <a:ext cx="71643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973240" y="61657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нспектор ГИБДД Ив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002-003-Dorogie-deti"/>
          <p:cNvPicPr/>
          <p:nvPr/>
        </p:nvPicPr>
        <p:blipFill>
          <a:blip r:embed="rId1"/>
          <a:stretch/>
        </p:blipFill>
        <p:spPr>
          <a:xfrm>
            <a:off x="4427640" y="1341360"/>
            <a:ext cx="25700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Безимени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1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5445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ШЕХОД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Рисунок5.jpg"/>
          <p:cNvPicPr/>
          <p:nvPr/>
        </p:nvPicPr>
        <p:blipFill>
          <a:blip r:embed="rId2"/>
          <a:stretch/>
        </p:blipFill>
        <p:spPr>
          <a:xfrm>
            <a:off x="3564000" y="1413000"/>
            <a:ext cx="357804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Безимени-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2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32000" y="5373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ОСТОРОЖНО, ДЕТ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6" descr="Рисунок11.png"/>
          <p:cNvPicPr/>
          <p:nvPr/>
        </p:nvPicPr>
        <p:blipFill>
          <a:blip r:embed="rId2"/>
          <a:stretch/>
        </p:blipFill>
        <p:spPr>
          <a:xfrm>
            <a:off x="2995560" y="1197000"/>
            <a:ext cx="51706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03640" y="5805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РЕМОНТ ДОРОГ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5" descr="Рисунок2.png"/>
          <p:cNvPicPr/>
          <p:nvPr/>
        </p:nvPicPr>
        <p:blipFill>
          <a:blip r:embed="rId2"/>
          <a:stretch/>
        </p:blipFill>
        <p:spPr>
          <a:xfrm>
            <a:off x="3276720" y="1341360"/>
            <a:ext cx="4870440" cy="42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269588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айна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рёх 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НЕ</a:t>
            </a: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на которы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держится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АВАРИЯ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42:19Z</dcterms:created>
  <dc:creator>Пользователь</dc:creator>
  <dc:description/>
  <dc:language>en-US</dc:language>
  <cp:lastModifiedBy>school</cp:lastModifiedBy>
  <dcterms:modified xsi:type="dcterms:W3CDTF">2011-04-29T10:56:30Z</dcterms:modified>
  <cp:revision>15</cp:revision>
  <dc:subject/>
  <dc:title>Слайд 1</dc:title>
</cp:coreProperties>
</file>